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3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7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77E-B160-4076-8414-62D44F9C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473-59C5-4BB4-BBDE-2015D97C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652-CF42-4188-808B-4AB20B89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602-86EA-484C-89D1-43383235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587-EAAF-40B4-AEAE-688B0E30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D0D-02D3-4D58-8FB3-963E42E5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79BB-12B3-4F4E-A159-A3BAA4B9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58F-DB19-4C3F-BF7B-29864DD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881-4DCE-4405-82A0-BBC9BC94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6C5-16AC-4D13-BB34-84F8AD9A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74C-5A62-41A3-86A1-678A055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761-78A8-4C88-975F-BE6C669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1BD7-2D70-459D-AFE0-8AFCBBF72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62320" y="1905120"/>
            <a:ext cx="405108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¿Qué 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3263760"/>
            <a:ext cx="5860800" cy="15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imperfecto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791320" cy="35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et the scene for another past a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1814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odos los niños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iraba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cuando el castillo se rompió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28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ell what was happening at a certain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51814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arlos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manejab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a Chicago cuando empezó a llo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27840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76360" cy="3657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15228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scribe a physical, mental or emotional state 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556272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Ana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querí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mucho a su marid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76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hora, vamos a practicar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990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rmir - A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990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orm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19810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bajar - t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1981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rabajab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3434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r - nosot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4343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áb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rer - Pedr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48448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que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62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der - U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762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d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ilar - mis tí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5715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aila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635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lver - y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olv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ír - nosotr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581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í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4572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día, mi hermana y yo _____________   en el 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80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vegáb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7524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entras yo __________ por teléfono, Carlos ______  una rev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16765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bla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209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¡Frankenstein ________ grande y verd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276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495288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 _________ que Ricky Martin ______ gua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8769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re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238880" y="228600"/>
          <a:ext cx="1508400" cy="98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228600"/>
                    <a:ext cx="15084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943600" y="1523880"/>
          <a:ext cx="104616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1523880"/>
                    <a:ext cx="10461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543800" y="1523880"/>
          <a:ext cx="1066680" cy="11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3800" y="1523880"/>
                    <a:ext cx="1066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315200" y="2895480"/>
          <a:ext cx="993600" cy="150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15200" y="2895480"/>
                    <a:ext cx="9936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10"/>
          <a:srcRect l="60161" t="0" r="14577" b="0"/>
          <a:stretch/>
        </p:blipFill>
        <p:spPr>
          <a:xfrm>
            <a:off x="7391520" y="4724280"/>
            <a:ext cx="939600" cy="1621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762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niño____________ muy enoj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685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ta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3623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 agosto, y __________ mucho calor en la play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286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267080"/>
            <a:ext cx="464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 las t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la tar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191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391520" y="2209680"/>
          <a:ext cx="15764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2209680"/>
                    <a:ext cx="1576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15000" y="2057400"/>
          <a:ext cx="1298520" cy="1285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057400"/>
                    <a:ext cx="12985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172200" y="4200480"/>
          <a:ext cx="1355760" cy="1362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4200480"/>
                    <a:ext cx="13557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05720" y="2286000"/>
          <a:ext cx="444240" cy="1100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05720" y="2286000"/>
                    <a:ext cx="44424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0120" y="380880"/>
          <a:ext cx="1378080" cy="1339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80120" y="380880"/>
                    <a:ext cx="137808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7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 éste es el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1828800"/>
            <a:ext cx="678168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mperfecto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19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ácil…  ¿n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80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imperfecto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es otro tiempo para indicar el pasado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29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¿Cómo se for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2120" y="3048120"/>
          <a:ext cx="2539800" cy="27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8120"/>
                    <a:ext cx="253980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ecemos con el infinitivo.  Quitemos la term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33520"/>
            <a:ext cx="7162920" cy="761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1523880"/>
            <a:ext cx="1218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152388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0984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1523880"/>
            <a:ext cx="13716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95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ñadamos la terminación nueva para el imperfec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743200"/>
            <a:ext cx="7162920" cy="7621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96252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áb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hab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3962520"/>
            <a:ext cx="2895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co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962520"/>
            <a:ext cx="2666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v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í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86200"/>
            <a:ext cx="327672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38862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¡Hay sol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9880" y="380880"/>
            <a:ext cx="6415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s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erbos irregular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676520"/>
            <a:ext cx="2819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   ér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a    e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2297160"/>
            <a:ext cx="2971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     íb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ba       ib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20040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    veía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s  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eía     veí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209680"/>
            <a:ext cx="29718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9920" y="3048120"/>
            <a:ext cx="3047760" cy="350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676520"/>
            <a:ext cx="2819160" cy="327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0200" y="1143000"/>
            <a:ext cx="4495680" cy="24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¿Cuán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7069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se usa 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934320" y="1371600"/>
          <a:ext cx="1441440" cy="30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1371600"/>
                    <a:ext cx="144144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3352680" y="3924360"/>
            <a:ext cx="299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mperfect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37069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379600" cy="365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049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describe 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3341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 novia 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llevaba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un hermoso vestido blan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3454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520" y="76320"/>
            <a:ext cx="800100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ell what time it 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100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Eran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las siete de la noche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relate a continuous or repeated action 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50292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uando éramos jóvenes, siempre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comíamos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helado en el ver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8765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4080" y="1679400"/>
            <a:ext cx="2851200" cy="3578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763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tell what used to happen in the p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25780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o siempre 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practicaba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el violín después de la ce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01:01:08Z</dcterms:created>
  <dc:creator>LAHS</dc:creator>
  <dc:description/>
  <dc:language>en-US</dc:language>
  <cp:lastModifiedBy>Jeff</cp:lastModifiedBy>
  <dcterms:modified xsi:type="dcterms:W3CDTF">2005-07-24T02:55:21Z</dcterms:modified>
  <cp:revision>24</cp:revision>
  <dc:subject/>
  <dc:title>No Slide Title</dc:title>
</cp:coreProperties>
</file>